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4F0B-9B16-433F-A62D-D8DB92F74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066F-B9E3-49E4-B790-F5D4855E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ssile range map, HSUS: p. 9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95AB-42A9-414F-87FE-6BC14302D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148-FBB5-4DEB-B39D-E929DE78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3E80-A349-4D3A-AD32-E0FBC244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ECEC-C3BF-4A0F-A91C-001096211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F99B-65FC-4E98-8DA5-EE2ACC4BD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learn360.com/ShowVideo.aspx?ID=515285&amp;SearchText=Investigations+Into+The+Fail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learn360.com/ShowVideo.aspx?ID=316997&amp;PageSize=50&amp;SearchText=fidel+cast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C4EC-63CD-4B93-8AC6-D21628339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EAB0-4A10-4303-953C-DF4168111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050840" y="4659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39C7-7777-488D-963E-EF678B5D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issile launch site photo, HSUS: p. 9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447920" y="47242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CD3-67DC-4039-BF48-76C3A66D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7F0-3792-42F0-BC3A-D589179A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440-6977-46BF-9498-B33F44E3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F2C-5D32-4107-8B98-1F167663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0325-AF07-45BD-8AC2-6D8CF10F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0383-6F4F-471A-97A8-99D96000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F85E-B62A-43C5-9A90-C52B5A9F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8E80-D0FE-42D0-9B23-F221A28B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44BE-4128-4BA5-AA36-0C66D0A6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D78B-860C-4188-AF88-3DE84341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920B-3361-448B-8D9A-18979038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F5A-59EC-48A9-9315-4037681D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09FF-2F6C-45AC-B1FC-679C981A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E784-DE01-4108-BED6-2F073FD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9A90-9644-400E-A37D-25C6CB26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953E-36C9-4067-9A39-5103E445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2C24-C4DD-41D4-A469-A392D6DC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38E3-C646-4AE2-8D30-78F6D47A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18E0-1366-48FB-B25A-90BD3FA6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9674-9C44-47FF-88C5-5559F125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D1E4-D7E6-4BC7-B1DB-04A2BFCA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47F5-F688-4F63-8A35-0C507346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E06-4F21-43F8-B9CB-FADB5B41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8061-8847-4871-868E-CAA5EF30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A49F-42D8-4B43-B44E-EDCB8AD1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B6B4D-A4B8-4DA6-9A04-1290BDAE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0264-43AE-4CC7-8BB0-06F46327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3414-BE01-4FC9-B8FE-9467376E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15D8-AFDE-4E96-A264-55315B48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3549-753D-4596-BDE1-12954E09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9CA3-305D-45AB-AAE2-41C5CAA3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0CFE-2B2E-454D-8FCE-E0FEC908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0F82-F432-4E8D-BF3C-B13D3AFF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730-A828-4451-95CE-D7642FB6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E24D-C15D-45B9-817F-1EB6C1D9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4667-CD0D-4C41-8212-FAA498D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25F28-14D2-4425-AAF8-ECC9443A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0628-7C12-4289-A8BF-64207CE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594A-41CF-4FC3-8715-7E948226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B924-9A4F-4C17-8C46-81EE753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E725-4DB3-4B39-A5D2-E4D751B5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67F2-7247-43A7-91A7-B14CBF68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9C30-F3C0-4B82-8223-5AAA8956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49511-8D6A-49E3-BE54-F9184616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5AE-1064-448E-A7C6-1B893B6B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6C303-1101-4839-A25C-61A0A23A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727C-B9F7-4276-BAC7-DFFFA416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098D-CFCE-48A6-88D2-987F4C6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DDA6-4E6C-42E1-B77E-F54296C8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B03C-3945-4606-A8F5-6836A771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B8858-E124-4DD7-9CC0-48AB645D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5564-6534-4B2B-9006-4D5D0BA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259EA-C4B6-447B-8F2E-FEDB75C1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98D6D-1A97-4021-87C8-B2E549A3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A7627-A676-4BA3-8B7B-C94482B4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AE8-9C81-4CBF-B860-13ADD0B2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21AF8-84C7-44FC-B04F-08585919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81700-993F-4AD8-A198-FFB7B0A4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2BC0A-A86E-4EF5-867C-7C86E5A7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2D92F-A0EE-4E1D-967A-357A064B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2DFF2-962B-48D5-B7C0-A21B6F1A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37071-1E47-4750-898C-A7E27DDD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E777E-4B4E-40DE-8F8C-D7632023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C443-5C31-444C-8CCE-D458049F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114D-225D-45E1-AA93-DC92BCF4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E8E9F-2A7D-499C-99ED-32A2C160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57A-4A87-4609-8835-B8AAB2B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DD30A-9F0D-460F-B586-0A4581E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C9924-43A2-44A5-8B5F-400174A2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CD640-544A-42D3-B8A3-7869908E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F9F78-1491-45A1-BD1B-39E09A48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ED4EB-EA76-4F21-A371-875EE68B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31E27-9A8E-4E85-BFF8-C7FA1EBC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4E439-FA18-454F-A579-6EF63EC3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EE730-A991-4F6B-BF42-59B17A4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BE304-72E6-4A55-93F2-C20D9D4E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DE4BB-CBF6-4227-8FE0-20B5A25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101-4D41-42B4-8639-D80538E7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7F625-F485-44E0-AEDF-B0FCAD1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2AB21-F2EC-468E-8355-C6714D8C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C08D5-9A43-4C8A-96EB-043DA6DF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A9781-DBC9-41ED-A77D-6F3C58D5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CDEB0-D268-4CE0-AE15-B17212F4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C3B-6C68-4DAE-82B4-D2AA9F34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0972-D6A4-4F4E-B7B9-D9E249CEBB6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12C-7BFD-44C2-987D-3900C6B682C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449D-F0D0-4028-A9CC-DFF6F13C149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23FF-6C61-455D-BD26-C1E9BC427CC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1D21-972D-4CAC-AD30-134BFB1EBCF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9960-E6BA-4197-A86F-FBBFA5D5CFB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4228-0C62-4FE6-8306-C3A434BC396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ay of Pigs Invasion, Berlin Crisis, and Cuban Missile Crisi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90720" y="327636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What impact did the Bay of Pigs, Berlin Crisis, and Cuban Missile Crisis have on the Cold War?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6"/>
          <p:cNvSpPr/>
          <p:nvPr/>
        </p:nvSpPr>
        <p:spPr>
          <a:xfrm>
            <a:off x="380880" y="2057400"/>
            <a:ext cx="281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missil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t thes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ban sites threaten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jor cities in the United States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8" name="Picture 5" descr="hsus_ch28_s1_CubanMissileMap"/>
          <p:cNvPicPr/>
          <p:nvPr/>
        </p:nvPicPr>
        <p:blipFill>
          <a:blip r:embed="rId1"/>
          <a:stretch/>
        </p:blipFill>
        <p:spPr>
          <a:xfrm>
            <a:off x="3352680" y="1295280"/>
            <a:ext cx="57484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The Cuban Missile Crisis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1676520" y="3962520"/>
            <a:ext cx="66294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hrushchev agreed to dismantle the missiles if the United States pledged to never invade Cuba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Both Kennedy and Khrushchev took steps to ease tensions between their countrie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y set up a hotline to allow direct communication during times of crisi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Limited Nuclear Test Ban Treaty was signed, ending atmospheric and underwater testing of nuclear weapons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28600" y="1676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Manag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1676520" y="838080"/>
            <a:ext cx="6629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Kennedy assembled a group of advisors, known as the ExComm, to help him plan a response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ExComm military members favored an air strike, perhaps followed by a land invasion of Cuba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Others argued for a naval blockade.  Kennedy agreed with this plan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The world watched as Soviet ships carrying missile parts approached the naval blockade.  They turned back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20560" y="4191120"/>
            <a:ext cx="10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Effects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of the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8"/>
          <p:cNvSpPr/>
          <p:nvPr/>
        </p:nvSpPr>
        <p:spPr>
          <a:xfrm>
            <a:off x="4495680" y="1828800"/>
            <a:ext cx="419112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b6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5" name="Rectangle 33"/>
          <p:cNvSpPr/>
          <p:nvPr/>
        </p:nvSpPr>
        <p:spPr>
          <a:xfrm>
            <a:off x="533520" y="1828800"/>
            <a:ext cx="396216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43040" y="2066760"/>
          <a:ext cx="7696080" cy="3610080"/>
        </p:xfrm>
        <a:graphic>
          <a:graphicData uri="http://schemas.openxmlformats.org/drawingml/2006/table">
            <a:tbl>
              <a:tblPr/>
              <a:tblGrid>
                <a:gridCol w="3752640"/>
                <a:gridCol w="3943440"/>
              </a:tblGrid>
              <a:tr h="609840">
                <a:tc>
                  <a:txBody>
                    <a:bodyPr lIns="274320" rIns="9000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ubl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>
                      <a:noFill/>
                    </a:lnL>
                    <a:lnR w="5760">
                      <a:solidFill>
                        <a:srgbClr val="a3a3c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4320" rIns="90000" tIns="137160" bIns="137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ind the Sce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 w="5760">
                      <a:solidFill>
                        <a:srgbClr val="a3a3c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0240">
                <a:tc>
                  <a:txBody>
                    <a:bodyPr lIns="274320" rIns="90000" tIns="137160" bIns="13716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a television address, Kennedy blamed </a:t>
                      </a:r>
                      <a:r>
                        <a:rPr b="0" lang="en-US" sz="1800" spc="-1" strike="noStrike">
                          <a:solidFill>
                            <a:srgbClr val="a5d028"/>
                          </a:solidFill>
                          <a:latin typeface="Verdana"/>
                        </a:rPr>
                        <a:t>Khrushchev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reckless action that threatened world pe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initiated a U.S. naval blockade of Cub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>
                      <a:noFill/>
                    </a:lnL>
                    <a:lnR w="5760">
                      <a:solidFill>
                        <a:srgbClr val="a3a3c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4320" rIns="90000" tIns="137160" bIns="13716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nedy told the Soviets that the United States would remove U.S. missiles from Turkey and Italy if the Soviets removed their missiles from Cub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274320" marR="90000">
                    <a:lnL w="5760">
                      <a:solidFill>
                        <a:srgbClr val="a3a3c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6680" y="15235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 resolve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uban missile cri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Kennedy worked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2" descr="soviet_old_soviet_union_flag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5386320" y="5257800"/>
            <a:ext cx="1243080" cy="824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us_flag"/>
          <p:cNvPicPr/>
          <p:nvPr/>
        </p:nvPicPr>
        <p:blipFill>
          <a:blip r:embed="rId2">
            <a:lum bright="44000"/>
          </a:blip>
          <a:stretch/>
        </p:blipFill>
        <p:spPr>
          <a:xfrm>
            <a:off x="2514600" y="5267160"/>
            <a:ext cx="1343160" cy="8146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29"/>
          <p:cNvSpPr/>
          <p:nvPr/>
        </p:nvSpPr>
        <p:spPr>
          <a:xfrm>
            <a:off x="304920" y="140184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fter six tense days, the Soviets backed off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1" name="Text Box 130"/>
          <p:cNvSpPr/>
          <p:nvPr/>
        </p:nvSpPr>
        <p:spPr>
          <a:xfrm>
            <a:off x="1600200" y="22096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ikita Khrushchev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greed to honor the blockade and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moved the missiles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1066680" y="342900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risis prompted the two leaders to establish a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eriod of détente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set up a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hot li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Washington, D.C. and Moscow to improve communication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3" name="Picture 10" descr="hsus_ch28_s1_hotlineleft"/>
          <p:cNvPicPr/>
          <p:nvPr/>
        </p:nvPicPr>
        <p:blipFill>
          <a:blip r:embed="rId3"/>
          <a:stretch/>
        </p:blipFill>
        <p:spPr>
          <a:xfrm>
            <a:off x="4038480" y="5257800"/>
            <a:ext cx="1087560" cy="784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17-532-map"/>
          <p:cNvPicPr/>
          <p:nvPr/>
        </p:nvPicPr>
        <p:blipFill>
          <a:blip r:embed="rId1"/>
          <a:stretch/>
        </p:blipFill>
        <p:spPr>
          <a:xfrm>
            <a:off x="338040" y="363600"/>
            <a:ext cx="8447040" cy="56242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7-528-image"/>
          <p:cNvPicPr/>
          <p:nvPr/>
        </p:nvPicPr>
        <p:blipFill>
          <a:blip r:embed="rId1"/>
          <a:stretch/>
        </p:blipFill>
        <p:spPr>
          <a:xfrm>
            <a:off x="63360" y="762120"/>
            <a:ext cx="9017280" cy="480060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152280" y="4373640"/>
            <a:ext cx="4876920" cy="11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57200" y="4495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Kennedy took responsibility for the mission’s failure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AutoShape 10"/>
          <p:cNvSpPr/>
          <p:nvPr/>
        </p:nvSpPr>
        <p:spPr>
          <a:xfrm flipH="1">
            <a:off x="5180760" y="3962520"/>
            <a:ext cx="3581640" cy="2133360"/>
          </a:xfrm>
          <a:prstGeom prst="wedgeRoundRectCallout">
            <a:avLst>
              <a:gd name="adj1" fmla="val -41537"/>
              <a:gd name="adj2" fmla="val -64847"/>
              <a:gd name="adj3" fmla="val 16667"/>
            </a:avLst>
          </a:prstGeom>
          <a:gradFill rotWithShape="0">
            <a:gsLst>
              <a:gs pos="0">
                <a:srgbClr val="31b6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9" name="Rectangle 29"/>
          <p:cNvSpPr/>
          <p:nvPr/>
        </p:nvSpPr>
        <p:spPr>
          <a:xfrm>
            <a:off x="5334120" y="411480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resident said, however, that he would continue to resist efforts by the communists to control other countries in Western Hemisphere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90480" y="1523880"/>
            <a:ext cx="7696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tarted with Eisenhower and followed with Kennedy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ceived by the CIA to overthrow Fidel Castro, the invasion involved Cuban exiles who had fled Castro’s rule and settled in the United States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ay of Pig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ission failed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457200" y="5335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he Bay of Pigs Invasion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Bay of Pigs Invas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019920" y="1447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533520" y="1600200"/>
            <a:ext cx="7696080" cy="266688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The Failed Invas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Information was leaked early- New York Time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Air strikes failed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Castro prepared for a land attack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Invaders were captured and ransomed back to United States for $52 million in food and aid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228600" indent="-22860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Strengthened Castro’s ties to the Soviet Union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581360" y="4438800"/>
            <a:ext cx="4562640" cy="23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8" descr="hsus_ch28_s1_barbedwire2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457200" y="380880"/>
            <a:ext cx="8001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The Berlin Crisis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agreement over Berlin led to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ilding of the </a:t>
            </a:r>
            <a:r>
              <a:rPr b="1" lang="en-US" sz="2400" spc="-1" strike="noStrike">
                <a:solidFill>
                  <a:srgbClr val="a5d028"/>
                </a:solidFill>
                <a:latin typeface="Verdana"/>
              </a:rPr>
              <a:t>Berlin Wal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AutoShape 23"/>
          <p:cNvSpPr/>
          <p:nvPr/>
        </p:nvSpPr>
        <p:spPr>
          <a:xfrm flipH="1">
            <a:off x="380160" y="2286000"/>
            <a:ext cx="3581640" cy="1295280"/>
          </a:xfrm>
          <a:prstGeom prst="wedgeRoundRectCallout">
            <a:avLst>
              <a:gd name="adj1" fmla="val -59356"/>
              <a:gd name="adj2" fmla="val -75004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Khrushchev insisted the U.S. end its military presence in West Berlin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AutoShape 24"/>
          <p:cNvSpPr/>
          <p:nvPr/>
        </p:nvSpPr>
        <p:spPr>
          <a:xfrm flipH="1">
            <a:off x="4723560" y="2057400"/>
            <a:ext cx="4038840" cy="1600200"/>
          </a:xfrm>
          <a:prstGeom prst="wedgeRoundRectCallout">
            <a:avLst>
              <a:gd name="adj1" fmla="val 54675"/>
              <a:gd name="adj2" fmla="val 63689"/>
              <a:gd name="adj3" fmla="val 16667"/>
            </a:avLst>
          </a:prstGeom>
          <a:gradFill rotWithShape="0">
            <a:gsLst>
              <a:gs pos="0">
                <a:srgbClr val="31b6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6699"/>
            </a:solidFill>
            <a:miter/>
          </a:ln>
          <a:effectLst>
            <a:outerShdw dist="40186" dir="4303641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nnedy refused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7632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hrushchev ordered the building of the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rlin W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parating East and West Berlin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9" descr="hsus_ch28_s1_barbedwire2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8"/>
          <p:cNvSpPr/>
          <p:nvPr/>
        </p:nvSpPr>
        <p:spPr>
          <a:xfrm>
            <a:off x="4248000" y="4343400"/>
            <a:ext cx="457200" cy="1447920"/>
          </a:xfrm>
          <a:prstGeom prst="rect">
            <a:avLst/>
          </a:prstGeom>
          <a:gradFill rotWithShape="0">
            <a:gsLst>
              <a:gs pos="0">
                <a:srgbClr val="a3a3c1"/>
              </a:gs>
              <a:gs pos="50000">
                <a:srgbClr val="dddddd"/>
              </a:gs>
              <a:gs pos="100000">
                <a:srgbClr val="a3a3c1"/>
              </a:gs>
            </a:gsLst>
            <a:lin ang="0"/>
          </a:gradFill>
          <a:ln w="19080">
            <a:solidFill>
              <a:srgbClr val="666699"/>
            </a:solidFill>
            <a:miter/>
          </a:ln>
          <a:effectLst>
            <a:outerShdw dist="40186" dir="4303641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533520" y="1447920"/>
            <a:ext cx="838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response to Khrushchev’s actions, Kennedy requested a larg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increase in military spending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 also sent 1,500 more U.S. soldiers to West Berlin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37339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Berlin Wal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came a symbol of the gulf between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AutoShape 15"/>
          <p:cNvSpPr/>
          <p:nvPr/>
        </p:nvSpPr>
        <p:spPr>
          <a:xfrm flipH="1" rot="5400000">
            <a:off x="2056680" y="2937600"/>
            <a:ext cx="762120" cy="3962520"/>
          </a:xfrm>
          <a:prstGeom prst="upArrowCallout">
            <a:avLst>
              <a:gd name="adj1" fmla="val 96842"/>
              <a:gd name="adj2" fmla="val 50000"/>
              <a:gd name="adj3" fmla="val 68650"/>
              <a:gd name="adj4" fmla="val 26394"/>
            </a:avLst>
          </a:prstGeom>
          <a:gradFill rotWithShape="0">
            <a:gsLst>
              <a:gs pos="0">
                <a:srgbClr val="cdcdff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4584d3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4952880" y="47242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mmunist Ea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AutoShape 16"/>
          <p:cNvSpPr/>
          <p:nvPr/>
        </p:nvSpPr>
        <p:spPr>
          <a:xfrm flipH="1" rot="16200000">
            <a:off x="6186240" y="2847600"/>
            <a:ext cx="762120" cy="4143600"/>
          </a:xfrm>
          <a:prstGeom prst="upArrowCallout">
            <a:avLst>
              <a:gd name="adj1" fmla="val 96842"/>
              <a:gd name="adj2" fmla="val 50000"/>
              <a:gd name="adj3" fmla="val 71788"/>
              <a:gd name="adj4" fmla="val 26394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4584d3"/>
            </a:solidFill>
            <a:miter/>
          </a:ln>
          <a:effectLst>
            <a:outerShdw dist="89604" dir="2700000" blurRad="0" rotWithShape="0">
              <a:srgbClr val="adc793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685800" y="47242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emocratic We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5029200" y="47242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the communist East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17-531-closeup"/>
          <p:cNvPicPr/>
          <p:nvPr/>
        </p:nvPicPr>
        <p:blipFill>
          <a:blip r:embed="rId1"/>
          <a:stretch/>
        </p:blipFill>
        <p:spPr>
          <a:xfrm>
            <a:off x="1447920" y="-30240"/>
            <a:ext cx="5638680" cy="69138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>
            <a:hlinkClick r:id="" action="ppaction://hlinkshowjump?jump=firstslide"/>
          </p:cNvPr>
          <p:cNvSpPr/>
          <p:nvPr/>
        </p:nvSpPr>
        <p:spPr>
          <a:xfrm>
            <a:off x="6934320" y="6019920"/>
            <a:ext cx="60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2" name="Rectangle 6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6"/>
          <p:cNvSpPr/>
          <p:nvPr/>
        </p:nvSpPr>
        <p:spPr>
          <a:xfrm>
            <a:off x="5791320" y="2133720"/>
            <a:ext cx="3124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1962, American intelligence agencies photographed Sovie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uclear missile installations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 Cub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4" name="Picture 5" descr="hsus_ch28_s1_CubanMissiles"/>
          <p:cNvPicPr/>
          <p:nvPr/>
        </p:nvPicPr>
        <p:blipFill>
          <a:blip r:embed="rId1"/>
          <a:stretch/>
        </p:blipFill>
        <p:spPr>
          <a:xfrm>
            <a:off x="304920" y="1676520"/>
            <a:ext cx="5435640" cy="4572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6"/>
          <p:cNvSpPr/>
          <p:nvPr/>
        </p:nvSpPr>
        <p:spPr>
          <a:xfrm>
            <a:off x="1523880" y="1003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uban Missile Crisis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ttp://wiki.danse.us/danse-restricted/images/1/12/CubanMissileCrisisU2photo.jpg"/>
          <p:cNvPicPr/>
          <p:nvPr/>
        </p:nvPicPr>
        <p:blipFill>
          <a:blip r:embed="rId1"/>
          <a:stretch/>
        </p:blipFill>
        <p:spPr>
          <a:xfrm>
            <a:off x="0" y="20520"/>
            <a:ext cx="92408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22:51:52Z</dcterms:created>
  <dc:creator>Gille, Brock</dc:creator>
  <dc:description/>
  <dc:language>en-US</dc:language>
  <cp:lastModifiedBy>Sacerdote, Kevin R.</cp:lastModifiedBy>
  <dcterms:modified xsi:type="dcterms:W3CDTF">2016-02-28T16:32:09Z</dcterms:modified>
  <cp:revision>6</cp:revision>
  <dc:subject/>
  <dc:title>PowerPoint Presentation</dc:title>
</cp:coreProperties>
</file>